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161-12F9-412F-BF7D-97277905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4FF-0733-45F5-BECF-95A77F1C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BC5-E7A3-4DC5-AA10-9F145FDF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95F-3834-40C9-9190-AB4B784E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02B5-C849-47E7-A440-963FF1AA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F107-E3AB-42E8-B0D8-50E292FF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C5B4-4E48-4D90-9A1D-EE974833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5284-C27A-4B44-9A9C-D18B897F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91EB-9A92-425A-AF39-3576157C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FC76-8207-44FD-874A-703659C4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48AE-CE01-418F-B32B-A14AC27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D33-1331-4C11-89C5-AC42BC7D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225B-40B0-4B0B-B5B4-4ACAB1A6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E484-E764-4CA9-9E4B-7DC4954B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DEF6-70B9-489E-BC74-D3945077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4D5B-E4DB-459A-8429-47E10AB5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44DC-7D04-47C5-ACD9-89117AC1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3F5-FC83-4379-B789-55B4089E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CDE-A459-43C0-BEDA-C82C11F7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9D0-F762-4A20-85FC-F08BD66C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BF7-D7E6-4295-957B-891CABE1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CF4-7E1D-4101-9A54-D11CB901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E35-2386-46D2-BF4B-E7637C6C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6F4-D784-4588-86A0-E958C78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3CC5-2D27-4816-9F1D-EAC326907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1069-807F-430D-9FB2-4627F57C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Taller IX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2640" y="5486400"/>
            <a:ext cx="6224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657600"/>
            <a:ext cx="6400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 Asignación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Asignación Incre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05520"/>
            <a:ext cx="32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manda de viaj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260960" y="5257800"/>
                <a:ext cx="1111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2670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220920" y="1568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452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2920" y="2590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1840" y="266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3600" y="2285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55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600" y="1599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30960" y="1294200"/>
            <a:ext cx="5200920" cy="3660120"/>
            <a:chOff x="1830960" y="1294200"/>
            <a:chExt cx="5200920" cy="3660120"/>
          </a:xfrm>
        </p:grpSpPr>
        <p:grpSp>
          <p:nvGrpSpPr>
            <p:cNvPr id="144" name=""/>
            <p:cNvGrpSpPr/>
            <p:nvPr/>
          </p:nvGrpSpPr>
          <p:grpSpPr>
            <a:xfrm>
              <a:off x="1830960" y="1294200"/>
              <a:ext cx="5200920" cy="3660120"/>
              <a:chOff x="1830960" y="1294200"/>
              <a:chExt cx="5200920" cy="3660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35800" y="1294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309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6280" y="1370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315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286000" y="1828800"/>
                <a:ext cx="4267080" cy="3048120"/>
                <a:chOff x="2286000" y="1828800"/>
                <a:chExt cx="4267080" cy="30481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19112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860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008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60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19112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148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008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00800" y="47242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2362320" y="1905120"/>
              <a:ext cx="4114800" cy="2895480"/>
              <a:chOff x="2362320" y="1905120"/>
              <a:chExt cx="4114800" cy="2895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666880" y="1905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95680" y="19051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62320" y="20574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4290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4600" y="480060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19720" y="4800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7712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77120" y="335268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438280" y="2870280"/>
                <a:ext cx="1752840" cy="253800"/>
                <a:chOff x="2438280" y="2870280"/>
                <a:chExt cx="1752840" cy="2538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>
                  <a:off x="2438280" y="3048120"/>
                  <a:ext cx="763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14600" y="287028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14600" y="3276360"/>
                <a:ext cx="1828800" cy="241560"/>
                <a:chOff x="2514600" y="3276360"/>
                <a:chExt cx="1828800" cy="241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514600" y="3276720"/>
                  <a:ext cx="167652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4191120" y="3276360"/>
                  <a:ext cx="1522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419720" y="3276360"/>
                <a:ext cx="1828800" cy="241560"/>
                <a:chOff x="4419720" y="3276360"/>
                <a:chExt cx="1828800" cy="241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19720" y="3276720"/>
                  <a:ext cx="167616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6095880" y="3276360"/>
                  <a:ext cx="1526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419360" y="2819520"/>
                <a:ext cx="1752840" cy="253800"/>
                <a:chOff x="4419360" y="2819520"/>
                <a:chExt cx="1752840" cy="2538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4419360" y="299736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95680" y="281952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V="1">
                <a:off x="426708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267080" y="3428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9664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74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840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29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66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128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264200" y="6095880"/>
                <a:ext cx="99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9284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91320" y="5715000"/>
                <a:ext cx="1218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3120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4674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aller 9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 1: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uentre el equilibrio o el óptimo del sistema para la red  mostrada en la figura anterior, usando el método de asignación incremental, con N=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incrementos a utilizar pueden ser constantes, es decir, iguales para todas las iteraciones, mayores al principio y menores al final, o viceversa. La elección de una estrategia para definir los incrementos es libre. Se premiará con puntaje adicional al grupo que logre mejor prec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ego de realizada la asignación, verifique la precisión obtenida comparando los costos o costos marginales por ruta según corresponda. Comente. Calcule los costos to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40000" y="1781280"/>
                <a:ext cx="206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68360" y="2565360"/>
                <a:ext cx="2298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68360" y="3500280"/>
                <a:ext cx="197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5086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84560" y="5445000"/>
                <a:ext cx="2000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22880" y="1779480"/>
                <a:ext cx="2194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122880" y="25718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24680" y="3436920"/>
                <a:ext cx="219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41960" y="4437000"/>
                <a:ext cx="1959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84720" y="537372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258920" y="692280"/>
            <a:ext cx="66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unciones de Costo de los arcos presentes en el problema s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19828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2846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5080" y="3716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5080" y="47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5080" y="56545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30920" y="1982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774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3649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4657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5587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84480" y="844560"/>
                <a:ext cx="2063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071880" y="1628640"/>
                <a:ext cx="2108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051000" y="2492280"/>
                <a:ext cx="2386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62160" y="3500280"/>
                <a:ext cx="221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6364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184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5440" y="271944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3727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Marcela Munizaga</cp:lastModifiedBy>
  <dcterms:modified xsi:type="dcterms:W3CDTF">2003-10-17T13:57:50Z</dcterms:modified>
  <cp:revision>30</cp:revision>
  <dc:subject/>
  <dc:title>CI 43A Análisis de Sistemas de Transporte </dc:title>
</cp:coreProperties>
</file>